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E34-48DE-4D22-ADC4-CA57F4DF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5F4-4459-42FA-AAD1-9AB04E9B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2A2-4CC2-4297-AA26-325583C5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0BE-C30A-41EF-8949-A6AB36B1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5D64-44FB-4FDD-A23B-2ABF46FE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D68C-719C-46E8-B4C2-AC6FC41A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78CE-6E13-4D7C-8C34-9E7C8D27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9675-BD9B-4321-B70C-0E748748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F035-027D-4B08-A5CC-5C64ACCC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6C62-E760-4EFD-933C-DE43121E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AFD2-7108-4935-B303-D04A3A6F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814-0E73-4A66-A99B-3A867668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A124-0D75-4AF2-9211-B92C9C8D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3D75-DA30-4F85-89BF-8F015300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6D5B-2C67-480A-8FC0-5C1864B7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49E2-D06E-4F61-8C08-0C49C9AF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B033-CC9B-46D2-8111-F3A5880B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F0F-BD94-4069-AEEF-374A9428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BBC-BF49-41AC-9454-CAF1848B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13B-2315-4944-9577-E7F5F912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556-C0FE-4357-82BC-65738966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8DE-6DD7-47DB-A024-94724159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8B8-149D-42A6-B40F-E2209526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4915-451F-4DFB-8619-718BD0DC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66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94D8-BA10-43D3-83C5-2CE6D3CEBD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66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B7CF-2889-4E88-9ABF-FC9E70CBC7F1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27.media.tumblr.com/tumblr_kz6dupX1Si1qasssyo1_400.jpg&amp;imgrefurl=http://www.tumblr.com/tagged/hot%2Bhistorical%2Bfigures&amp;usg=__P-1bR43-wUVnv0naPW2fkiY4knM=&amp;h=263&amp;w=293&amp;sz=12&amp;hl=en&amp;start=1&amp;zoom=1&amp;um=1&amp;itbs=1&amp;tbnid=bSJlQ-WagMxsNM:&amp;tbnh=103&amp;tbnw=115&amp;prev=/images%3Fq%3Dyoung%2Bhernando%2Bcortes%26um%3D1%26hl%3Den%26rls%3Dcom.microsoft:*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madamepickwickartblog.com/wp-content/uploads/2010/04/cortez2.jpg"/>
          <p:cNvPicPr/>
          <p:nvPr/>
        </p:nvPicPr>
        <p:blipFill>
          <a:blip r:embed="rId1"/>
          <a:stretch/>
        </p:blipFill>
        <p:spPr>
          <a:xfrm>
            <a:off x="4267080" y="1447920"/>
            <a:ext cx="3657600" cy="487656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380880" y="1981080"/>
            <a:ext cx="38862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98cff"/>
                </a:solidFill>
                <a:latin typeface="Arial"/>
              </a:rPr>
              <a:t>Could this one convers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98cff"/>
                </a:solidFill>
                <a:latin typeface="Arial"/>
              </a:rPr>
              <a:t>change his lif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H="1">
            <a:off x="3581280" y="5334120"/>
            <a:ext cx="1524240" cy="30456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6477120" y="5486400"/>
            <a:ext cx="533160" cy="91440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679760" y="548640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Hernando Corté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098760" y="649116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Montezuma: Aztec Ru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p of his Trav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http://www.whatdoyaknow.com/Curriculum-term1and2/Curriculum%20Stuff-2003/Aztecs/Cortes-map066.gif"/>
          <p:cNvPicPr/>
          <p:nvPr/>
        </p:nvPicPr>
        <p:blipFill>
          <a:blip r:embed="rId1"/>
          <a:stretch/>
        </p:blipFill>
        <p:spPr>
          <a:xfrm>
            <a:off x="457200" y="1600200"/>
            <a:ext cx="7989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http://lambiek.net/pontiac_exhibition/artwork/pontiac_05.gif"/>
          <p:cNvPicPr/>
          <p:nvPr/>
        </p:nvPicPr>
        <p:blipFill>
          <a:blip r:embed="rId1"/>
          <a:stretch/>
        </p:blipFill>
        <p:spPr>
          <a:xfrm>
            <a:off x="5638680" y="2133720"/>
            <a:ext cx="2819520" cy="39243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nquering the Aztecs (continued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his is a turning point in Hernando Cortés's lif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In 1519 he reach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enochtit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Aztecs surrender in 15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http://karenswhimsy.com/public-domain-images/aztec-indians/images/aztec-indians-3.jpg"/>
          <p:cNvPicPr/>
          <p:nvPr/>
        </p:nvPicPr>
        <p:blipFill>
          <a:blip r:embed="rId1"/>
          <a:stretch/>
        </p:blipFill>
        <p:spPr>
          <a:xfrm>
            <a:off x="5867280" y="1447920"/>
            <a:ext cx="2629080" cy="3924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ter the Azte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enochtitlan became Mexico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Peace with Ind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Started farms and m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Sponsored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Building more ci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Converted Native Americans to Roman Catho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ter the Aztecs (continue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1526 suspended from being govern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Accused of poisoning new lead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ime when Spain chang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government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Conquista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http://www.bbc.co.uk/history/historic_figures/images/cortes_hernan.jpg"/>
          <p:cNvPicPr/>
          <p:nvPr/>
        </p:nvPicPr>
        <p:blipFill>
          <a:blip r:embed="rId1"/>
          <a:stretch/>
        </p:blipFill>
        <p:spPr>
          <a:xfrm>
            <a:off x="5969160" y="2895480"/>
            <a:ext cx="2352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ter Ye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Now is a time when Hernando’s murderous actions cost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ravels back to Spain (152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Received minimum re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Went back to New Spain (15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p of the Worl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world-map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ter Years (continue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In New Spain he wanted to convince the government to give him powe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Didn’t succ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After many years of trying to prove his innocence he made himself a palace in Cuernava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his is his most unsuccessful time of his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ernavaca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pict51"/>
          <p:cNvPicPr/>
          <p:nvPr/>
        </p:nvPicPr>
        <p:blipFill>
          <a:blip r:embed="rId1"/>
          <a:stretch/>
        </p:blipFill>
        <p:spPr>
          <a:xfrm>
            <a:off x="762120" y="1371600"/>
            <a:ext cx="701028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ter Years (continue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 didn’t stay put in his pa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Made expeditions to lower Califo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Not very success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Once again returned to S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 was just neg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By now he was not welcome anywhere and very much in deb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nd of Lif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pleurisy"/>
          <p:cNvPicPr/>
          <p:nvPr/>
        </p:nvPicPr>
        <p:blipFill>
          <a:blip r:embed="rId1"/>
          <a:stretch/>
        </p:blipFill>
        <p:spPr>
          <a:xfrm>
            <a:off x="4762440" y="4000680"/>
            <a:ext cx="4381560" cy="2857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By now he has given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 attempted to return to 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Never mad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Died on December 2</a:t>
            </a:r>
            <a:r>
              <a:rPr b="0" lang="en-US" sz="3200" spc="-1" strike="noStrike" baseline="30000">
                <a:solidFill>
                  <a:srgbClr val="a98c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 154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 died of pleuri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Pleurisy- inflamm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in the lungs and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Murderer: 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he Life of Hernando Cortés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By: Haley Silver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nd of Life (continue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 died at a monastery near Seville, S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ad gone from being very successful to a very disliked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So determined to be powerful, and li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It controlled his a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Prevented him from enjoying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ville Spa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spain_map"/>
          <p:cNvPicPr/>
          <p:nvPr/>
        </p:nvPicPr>
        <p:blipFill>
          <a:blip r:embed="rId1"/>
          <a:stretch/>
        </p:blipFill>
        <p:spPr>
          <a:xfrm>
            <a:off x="1219320" y="1295280"/>
            <a:ext cx="65530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v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Answer this question on a piece of scratch paper. Describe three main things about Hernando Corté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Conquered the Azte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Was successful and unsuccess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Very murderous, and let power, and glory get to h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rap 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Childhood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Uninterested in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Wanted to rule land, and be powerful and r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Adulthood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Defeated the Azte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Set up his reputation that would ruin his later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rap up (continue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Later Years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Spent years trying to repair re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Traveled between Spain and New Sp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Died in S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1640" y="1447920"/>
            <a:ext cx="3886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ow this relates to the theme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rnando Cortés was a Spanish Conquistad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Spanish conquistadors helped conquer land for Spain in the Amer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hroughout our history we will come in contact with Spanish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hat is how Hernando Cortés relates to the theme of Origi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 you have any question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The student will be able to describe three main ideas about Hernando Corté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What was he li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What was his main accomplish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8cff"/>
                </a:solidFill>
                <a:latin typeface="Arial"/>
              </a:rPr>
              <a:t>What were his mistak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rnando Cortés Child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Born 18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Kingdom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Castile, S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6" descr="Castilla_1210"/>
          <p:cNvPicPr/>
          <p:nvPr/>
        </p:nvPicPr>
        <p:blipFill>
          <a:blip r:embed="rId1"/>
          <a:stretch/>
        </p:blipFill>
        <p:spPr>
          <a:xfrm>
            <a:off x="3505320" y="1676520"/>
            <a:ext cx="38653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ildhood (continue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Upper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ad an anti-social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 attended school but failed most of his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Dropped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http://t1.gstatic.com/images?q=tbn:bSJlQ-WagMxsNM:http://27.media.tumblr.com/tumblr_kz6dupX1Si1qasssyo1_4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3429000"/>
            <a:ext cx="28195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Young Adulthood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Fascinated by the new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Became a sold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Never sailed until he was 18 years 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Sailed to Hispani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http://pirates.missiledine.com/images/maps/Hispaniola.jpg"/>
          <p:cNvPicPr/>
          <p:nvPr/>
        </p:nvPicPr>
        <p:blipFill>
          <a:blip r:embed="rId1"/>
          <a:stretch/>
        </p:blipFill>
        <p:spPr>
          <a:xfrm>
            <a:off x="3733920" y="4413240"/>
            <a:ext cx="5410080" cy="24447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1001520" y="52578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ispani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Straight Arrow Connector 8"/>
          <p:cNvCxnSpPr/>
          <p:nvPr/>
        </p:nvCxnSpPr>
        <p:spPr>
          <a:xfrm>
            <a:off x="3124080" y="5562720"/>
            <a:ext cx="457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http://farm3.static.flickr.com/2454/3965048729_7b9cf5962f_b.jpg"/>
          <p:cNvPicPr/>
          <p:nvPr/>
        </p:nvPicPr>
        <p:blipFill>
          <a:blip r:embed="rId1"/>
          <a:stretch/>
        </p:blipFill>
        <p:spPr>
          <a:xfrm>
            <a:off x="6858000" y="2057400"/>
            <a:ext cx="2009880" cy="3886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Young Adulthood (continue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In Hispaniola, he was a wealthy farmer and sold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Very successful and well lik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Was elected May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efore Cortés Sets Sai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During the time before Hernando Cortés set out to conquer more land, he was in an affai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One night he climbed up a wall to visit his mistress, but the wall crumbl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 fell in the rubble and was hu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Due to his injury he was stuck in bed when the ship depar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quering the Azte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Personality changes once he sets s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He becomes a murder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Won’t let any man, woman, or child get in his way of gl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8cff"/>
                </a:solidFill>
                <a:latin typeface="Arial"/>
              </a:rPr>
              <a:t>This was common in Spanish Conquista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5:38:15Z</dcterms:created>
  <dc:creator>Steve</dc:creator>
  <dc:description/>
  <dc:language>en-US</dc:language>
  <cp:lastModifiedBy>nstarzynski</cp:lastModifiedBy>
  <dcterms:modified xsi:type="dcterms:W3CDTF">2010-10-14T16:22:29Z</dcterms:modified>
  <cp:revision>22</cp:revision>
  <dc:subject/>
  <dc:title>Slide 1</dc:title>
</cp:coreProperties>
</file>